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828B-EB13-413F-B0E9-ECDE8407CE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Верхний колонтитул 4"/>
          <p:cNvSpPr/>
          <p:nvPr/>
        </p:nvSpPr>
        <p:spPr>
          <a:xfrm>
            <a:off x="0" y="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3129-646D-43BC-A938-67450095F5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89F3-B418-4E4D-85DC-4AF3EDE772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096-7106-45FB-934D-AB02DBA8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1B78-CD1A-4C5B-B65D-1942FEFC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638BF-0DC7-47F0-8896-DC61FE94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88475-D738-4318-963E-D5904B42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A552D-74F5-4796-90CF-8B5C0182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AD09D-BB8F-4A22-92D3-10C12D8F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8408F-6689-45B5-973A-EF6BBDCF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9D4A6-BA27-4C04-89AB-A47A70F2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4D222-7D4F-4320-AF5F-BEDE7D13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66388-7CAA-41ED-89CD-E15B93A7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2D5F3-4B87-4347-BF23-9C4DADEC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05692-6236-46AF-A5E3-9960521A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40A-CC6A-458D-808C-7DDC367B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AA6CE-AE06-45FC-91B3-9508336C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D1F49-A525-4D4D-8083-B38849E7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1CAB4-F188-4E98-8DA2-A5C3EC72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19A2A-22D4-4D3E-BD51-0F4A9997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0CFFC-B9EE-46C2-AD5D-38C9CDFB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8A895-C96E-4FBB-B1F6-427799EB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F059B-186E-41FC-8CA5-812AFD89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2B98B-CC1E-4466-8D3E-09C16AB1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12B03-A237-48B3-85F1-78FC9AA6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7FB80-8CAE-44D7-B0EB-42184BFB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B83-AB78-4488-8441-2B32039A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D483E-6A28-4FE9-8B51-253104F3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25FB5-E36A-4E6F-898E-914E4506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B73B8-0E3A-4B16-A171-1669836E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17D7E-DF00-4798-9112-BA087172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71047-DBCA-458C-804E-FDC45829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3E996-8429-4041-83B9-EC55E3F2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6CDE0-41C4-4A3B-BCEB-3EAF118F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CE524-9A32-4D5F-8C47-C1041617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5D724-EF71-423D-96C1-15946948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C2E92-B504-4298-9CDA-589CCCC1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5E66-8881-4BDB-9923-DB2028C9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3ABC5-00D0-4316-ADD0-AC9EC3F8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163F5-49E4-4B04-A68A-8D957539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D8D8F-95AA-4FE0-BB11-F6C67553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A82A6-63D5-4368-9A28-C4255CB8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134CE-6664-4FC1-B0D9-7E5FA979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47106-F3F3-435D-B862-6E1CDE67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07B88-ACA6-4BE4-A4FB-58AB12FA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07B7E-AE3D-41BC-847F-4F7B608C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10A5E-45FB-499D-BE60-D500E92B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9F082-1073-494C-B297-B8721F03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4763-C8C5-4684-BCCA-14F5CD95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18AB6-626E-4B01-B378-ED547C95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2DAC6-B674-4482-A001-B0414619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9CED8-A661-4E83-9553-E1A94122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A958D-F6C6-41D3-B4D9-DECFD267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D6182-236F-4AC3-B609-39EC17D0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D2B354-7ED3-46C7-B33B-2CCC71D2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2CC7F-7BCB-4E03-9EC1-F2150F7B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2BD02-28BA-4C1B-A925-3202FEEA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1457E4-7E4E-4CB0-8429-20E1A919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DAA435-3233-4634-9B5A-BA8DC22A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493E-67F1-472E-9514-C7722EC2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614D2-B9BB-4BE3-A881-D91F0F06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59E7E-7D74-4E16-BF87-6E9A76DF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5D034-A823-4C50-8EAF-C3CB1B30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51643-2709-44EE-B588-5A53ABA3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59540-0D3A-4B14-B729-59D77BC3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4E3282-2A7B-4384-A67E-C60691E1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EBBF2-6739-4807-8585-693345F4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C73F97-75FF-4B8E-8BE3-16640D18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A4D4D3-B234-44EF-B88A-2DB12F39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57EBC3-5F80-48C0-8774-39309617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1EF3-3E14-43A2-BC54-9AA9EB4D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784853-D4A3-445B-9137-1E35C1B3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3CFE14-AF58-430C-9F69-828B7510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75B2C-5EBF-44FF-8A7D-C2414651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06CAB-484C-441B-A8D3-43DB4BA2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8802A-E847-4FC1-8E4D-B6941722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66B6BF-4136-478A-B066-6780485A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0B8D1-BB11-495F-A1EE-2B830E6A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D9077F-C770-4EA4-91CE-261D51A2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3B76A4-F7E3-492C-AA21-E61D5DAD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A71F-65A2-44C9-B920-3968CC35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771F-4110-4EC3-94EE-D96AB06C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895C-2999-42A5-8B78-EEC36297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7BF-E04B-4FE5-BC73-7E546FB6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3346-DA4A-4E76-A29E-74328A78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897A-BA61-4FA4-A4DE-113A5C77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71DA-6FEA-4A39-BCB2-16E900C8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B401-0A59-45D3-94E1-3E7D369A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CAB6-FBEF-4C4E-8BAD-0EF72BB6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81EDA-1F15-4D86-865E-008BAE1C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F776C-F900-4C03-BC6A-D0BE0A60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35319-BD02-4FF7-A8BB-1C47C503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020AC-8F5C-4059-9923-BC238759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2A7D2-609B-400A-8F0E-8813B071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768-B2F6-4008-B4B9-C50B44E4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83260-2D53-450E-8FF9-98D20A79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9ADD-CFE7-4264-A931-44680F0C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70E52-CBD2-407D-82BA-3E3289CD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809A4-F5B6-42C7-8883-B4BB3145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23186-D78D-4F14-AF3B-71B10B7C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9EFE1-F9A6-4A5E-8962-D5B82A72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77AE1-0BD9-4DE0-A4D5-956A14BB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38856-80B7-46FB-BFB6-1F2751BD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E1CBA-C611-411A-BA49-EF21EAF0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42A5D-A84D-462C-AF2D-9984B9BC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50D-33FD-4BE8-960D-AE7E464B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CC8D0-6296-44E5-897B-CF88EE9B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93563-9430-4DB7-9187-1872BD93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07690-EEE8-4476-BF4E-E403718D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1DABE-A4E3-447D-A86E-B4C7CB5F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B3F2E-C403-4B16-927A-6506A1AA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A9335-F3CA-44EA-8B2A-BA40BC4B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8924F-DEEA-44E9-BAFB-E4BC45EC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4C516-6257-41A7-86EA-EDA5CC82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B66EA-A5D6-445E-B603-308A8F16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ADD7C-80EA-46D7-B1E0-00D22588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9B9-7EFC-4B25-8448-58847F8B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89C69-4EAB-4FCE-9E88-63805CE4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19C72-AB2A-4BDB-8519-B9BE82F3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4CB94-5198-4D20-B38E-E0881E46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F4B83-3EBE-44C7-89E7-ABF2214F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8C750-DD51-4FFC-9C22-51B0E8E5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08982-D781-4BAC-B23A-40CD123A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E7F22-67CA-44C1-9A24-83927D65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DEAE9-5418-4A23-B53E-DFFC0284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C0C8B-DAB5-4734-94EE-05CF6443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5AC4D-4BEC-4327-BB7E-2B621630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835D-8E1A-4457-8005-288953F7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C1395-F7DA-49CD-849A-0B424A6F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98B63-C36F-46A8-B269-F11C1E6D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2B668-0EC2-4FF7-B8B4-710A39E0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CD5B0-A9C5-4108-BB23-5E82F2A2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A076B-F5CA-4D22-A9D7-D92C387B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3354B-8E8B-462F-BA7C-1B82EE61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FF73F-2788-4E9A-A537-844ED106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A2B5B-BE59-48A8-8455-7C5C5212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3D88A-D740-4D36-AB1C-64B47BD2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99458-FFA3-441F-B9D9-9345C3F6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BAA-BFDE-48B0-BAE1-5001EC6F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731A7-F1B5-40EC-B074-ECD61ED8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C8478-E559-48D7-A23C-ADB44752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A17A6-A819-4002-9D72-17B9D1A8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D1FBF-CA06-4847-8E96-5DE333E6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F93F5-BA46-4C04-92E8-F9450F54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BBDD3-8CFA-4DD0-BCC1-E9D4BFEB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EBE4C-99CD-43AC-A285-AA17EA1C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5192B-4F9B-4A66-B5DB-93FFC23F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E3BC2-4471-4A6E-8BDD-426C34A4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16F7D-C7D3-453B-B33B-8B0BA693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8EA-BBB8-4370-AA82-A5687483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E19E2-6188-4C7F-A3C0-A9C83374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98ABE-6109-4C8D-B57F-A635EC37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73073-1309-4B9C-A76F-FC84ECE7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BEF33-C81D-49FF-B39D-EC9074E7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69C92-306A-45FC-A20E-9FC07836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7DE8B-2C15-4228-A3D2-CBDA945B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3C686-3F6D-445F-B8C5-168D1B7A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C160F-864D-4A68-B26D-D9903036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8C787-A7DE-4C08-BD18-D0B46A3A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81759-A5D7-4D2D-8B4F-6B11F86D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13DB-497A-49DE-A5BC-B1F08C92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70583-1CDC-4C07-8748-FCCC47A1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CA1E3-196A-4993-B427-D3DC58B5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BA9BD-2376-4BE6-86BA-DE77FBC0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AF4A4-9010-4622-918E-006F4FD8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4FB11-17A6-4E78-A1B0-9E481B07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5BF3A-A388-4CDA-AFB8-275BD547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42ACB-9AD2-4E83-9D35-763E67D5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0D2A5-78A1-4A4D-9CFE-E9E0F445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E5B1E-E46A-42C3-8773-3C1A7630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77A7F-52D9-4828-96AE-70084649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6655-6BA2-40A2-98D9-C1ADAAC61881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6E1D-6146-4F2B-A2F3-2E2E83CF67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05E2-55CE-45B2-83A2-66201CC5F81F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FD63-6591-4C99-BBDE-64A0676E97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C326-4D00-41D1-BC97-22D2F2370A4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3E85-B58F-4C12-9889-949C0F5220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9323-F36B-4F11-99C9-DA2DCCFD2FE3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5B48-A7A3-47A8-8F3E-699BBA8C09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75ED-E6F3-4E42-B1D9-8295ED579B3D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B2ED-FAC2-472A-8563-E36B1FA49F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871E-39CE-4F78-8E2E-B7547C70B9AC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93EC-66A2-4D69-BFA8-F5E63F26D7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CFF4-19AD-48B5-BF97-ABDEE87A82A3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1CFF-B0A4-450A-BAE7-6880C434E3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F0D9-FA34-47B8-B3A1-67D5D58EA557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6829-E496-4925-9A7E-EEFFC8A780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9973-6641-4C24-B69A-437B2A4FD942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4F6F-8AF4-4421-A3E9-7A52F31FD0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06D4-929D-466F-B1C0-5109B0A25F92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A354-C6EC-4ED4-BBDB-941352180D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08C1-620B-4238-9529-643A8A6B5DB2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6BD6-5681-4DE5-A97D-DB0F5D2291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16DF-2CB4-4C3C-B8E5-17CF6D36134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F030-41D8-424D-9A40-E09457C39A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C9E1-99F1-4878-ABE4-82E4BBA7D0BE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6AA6-0650-474D-A59E-75C172B797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244E-41A2-4B5B-8958-BCC5933E9FC3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7C10-F7F8-44F1-BD34-388D724F7A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9FB6-3A0B-48DA-9243-8663E0EF272D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368000" y="1773360"/>
            <a:ext cx="777564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  <a:ea typeface="Times New Roman"/>
              </a:rPr>
              <a:t>Правоприменительная практика контрольно-надзорной деятельности  территориального  отдела Межрегионального управления № 25 ФМБА  России  за  2018 год.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Calibri"/>
                <a:ea typeface="Times New Roman"/>
              </a:rPr>
              <a:t>Публичные обсуж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1295280" y="4868640"/>
            <a:ext cx="784872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  <a:ea typeface="Times New Roman"/>
              </a:rPr>
              <a:t>Заместитель руководителя Межрегионального управления № 25 ФМБА России  -  начальник территориального отдела Межрегионального управления № 25 ФМБА Росс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  <a:ea typeface="Times New Roman"/>
              </a:rPr>
              <a:t>М.В. Каш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Picture 4" descr=""/>
          <p:cNvPicPr/>
          <p:nvPr/>
        </p:nvPicPr>
        <p:blipFill>
          <a:blip r:embed="rId1"/>
          <a:stretch/>
        </p:blipFill>
        <p:spPr>
          <a:xfrm>
            <a:off x="3875040" y="76500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Количество обращений граждан в территориальный отдел Межрегионального управления № 25 ФМБА России в 2017-2018г.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Объект 2" descr=""/>
          <p:cNvPicPr/>
          <p:nvPr/>
        </p:nvPicPr>
        <p:blipFill>
          <a:blip r:embed="rId1"/>
          <a:stretch/>
        </p:blipFill>
        <p:spPr>
          <a:xfrm>
            <a:off x="646200" y="1871640"/>
            <a:ext cx="7851600" cy="3981600"/>
          </a:xfrm>
          <a:prstGeom prst="rect">
            <a:avLst/>
          </a:prstGeom>
          <a:ln w="0">
            <a:noFill/>
          </a:ln>
        </p:spPr>
      </p:pic>
      <p:sp>
        <p:nvSpPr>
          <p:cNvPr id="61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0235-FC65-4584-A924-77BEACEC5423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040" y="333000"/>
            <a:ext cx="76899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инамика применения мер административного воздействия в отношении юридических лиц и индивидуальных предпринимателей, расположенных на территории р.п. Кольцово Новосибирской области в 2016-2018 г.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611280" y="1628640"/>
          <a:ext cx="8101080" cy="4554720"/>
        </p:xfrm>
        <a:graphic>
          <a:graphicData uri="http://schemas.openxmlformats.org/drawingml/2006/table">
            <a:tbl>
              <a:tblPr/>
              <a:tblGrid>
                <a:gridCol w="2284200"/>
                <a:gridCol w="2827440"/>
                <a:gridCol w="2989440"/>
              </a:tblGrid>
              <a:tr h="151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Количе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стано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умма административ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штрафов (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9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6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7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намика применения мер административного воздействия в отношении юридических лиц и индивидуальных предпринимателей, расположенных на территории р.п. Кольцово Новосибирской области в 2016-2018 г.г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8" name="Объект 2" descr=""/>
          <p:cNvPicPr/>
          <p:nvPr/>
        </p:nvPicPr>
        <p:blipFill>
          <a:blip r:embed="rId1"/>
          <a:stretch/>
        </p:blipFill>
        <p:spPr>
          <a:xfrm>
            <a:off x="646200" y="1871640"/>
            <a:ext cx="7851600" cy="3981600"/>
          </a:xfrm>
          <a:prstGeom prst="rect">
            <a:avLst/>
          </a:prstGeom>
          <a:ln w="0">
            <a:noFill/>
          </a:ln>
        </p:spPr>
      </p:pic>
      <p:sp>
        <p:nvSpPr>
          <p:cNvPr id="61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8203-0DF3-4FBD-A1A3-AE25FD876ACA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оказатели контрольно-надзорной деятельности Территориального отдела Межрегионального управления №25 ФМБА России                       за 2017-2018 г.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826920" y="1916280"/>
          <a:ext cx="7345440" cy="3693960"/>
        </p:xfrm>
        <a:graphic>
          <a:graphicData uri="http://schemas.openxmlformats.org/drawingml/2006/table">
            <a:tbl>
              <a:tblPr/>
              <a:tblGrid>
                <a:gridCol w="4819680"/>
                <a:gridCol w="1301760"/>
                <a:gridCol w="1224000"/>
              </a:tblGrid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017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01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Всего проведено проверок (плановых, внеплановых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з них: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внеплановых проверок –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в том числе согласованных с прокуратур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Выдано предписаний 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з них по внеплановым проверка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в том числе, согласованных с прокуратур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ривлечено лиц к административной ответ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з них при внеплановых проверка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в том числе, согласованных с прокуратур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Количество проверок, по результатам которых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е выявлены нарушения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–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з них при внеплановых проверка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в том числе, согласованных с прокуратур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Заголовок 1"/>
          <p:cNvSpPr/>
          <p:nvPr/>
        </p:nvSpPr>
        <p:spPr>
          <a:xfrm>
            <a:off x="395280" y="27468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Основные типовые нарушения обязательных требова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в образовательных и оздоровительных организациях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Содержимое 2"/>
          <p:cNvSpPr/>
          <p:nvPr/>
        </p:nvSpPr>
        <p:spPr>
          <a:xfrm>
            <a:off x="39528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0C14-03AA-4769-923B-367037EF6287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Прямоугольник 1"/>
          <p:cNvSpPr/>
          <p:nvPr/>
        </p:nvSpPr>
        <p:spPr>
          <a:xfrm>
            <a:off x="611280" y="1417680"/>
            <a:ext cx="8208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  <a:ea typeface="Arial"/>
              </a:rPr>
              <a:t>Отсутствие своевременного ремонта помещений. Поверхность стен полов с дефектами, недоступна для качественной влажной уборки и обработки моющими и дезинфицирующими средствами, на стенах отслаивалась краска, линолеум с нарушенной целостностью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  <a:ea typeface="Arial"/>
              </a:rPr>
              <a:t>Нарушение санитарно-эпидемиологических правил при эксплуатации бассейнов дошкольных образовательных учреждений и школ в части своевременного проведения генеральных уборок и дезинфекции помещений бассейнов, что подтверждалось результатами лабораторного контрол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  <a:ea typeface="Arial"/>
              </a:rPr>
              <a:t>Нарушения  организации  питания детей  в соответствии с примерным меню в части учета физиологических потребностей в энергии  для детей разных возрастных групп.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  <a:ea typeface="Arial"/>
              </a:rPr>
              <a:t>Несоответствие  уровней искусственной освещенности в помещениях учреждений  нормируемым гигиеническим нормативам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  <a:ea typeface="Arial"/>
              </a:rPr>
              <a:t>Отсутствие сопроводительной документации на отдельные продукты, подтверждающей безопасность продукции  с указанием даты выработки, сроков и условий хранения продукции, поступающей для реализации в пищеблок учреждени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  <a:ea typeface="Arial"/>
              </a:rPr>
              <a:t>Нарушение правил мытья посуды, что подтверждалось  неудовлетворительным результатам смывов на бактерии группы кишечной палочки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75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Заголовок 1"/>
          <p:cNvSpPr/>
          <p:nvPr/>
        </p:nvSpPr>
        <p:spPr>
          <a:xfrm>
            <a:off x="395280" y="27468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Основные типовые нарушения обязательных требован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в организациях общественного питания и торговли пищевыми продуктам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Содержимое 2"/>
          <p:cNvSpPr/>
          <p:nvPr/>
        </p:nvSpPr>
        <p:spPr>
          <a:xfrm>
            <a:off x="250920" y="1557360"/>
            <a:ext cx="87138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Arial"/>
              </a:rPr>
              <a:t>Отсутствие своевременного ремонта помещений. Поверхность стен полов с дефектами, недоступна для качественной влажной уборки и обработки моющими и дезинфицирующими средствами, на стенах отслаивалась краска, линолеум с нарушенной целостностью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Arial"/>
              </a:rPr>
              <a:t>Для организаций, расположенных в цокольных и первых этажах жилых зданий отсутствие эффективной звукоизоляции помещений, в которых расположено вентиляционное и холодильное оборудование, что приводит к обоснованным жалобам на шум жильцов выше расположенных квартир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Arial"/>
              </a:rPr>
              <a:t>Использование проходные помещений (коридоров) для хранения пищевых продуктов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Arial"/>
              </a:rPr>
              <a:t>Реализация непродовольственных товаров (предметы гигиены: шампуни, краски для волос, гели для душа и др.) в отделах, реализующих пищевые продукты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Arial"/>
              </a:rPr>
              <a:t>Хранение продуктов, имеющих специфический запах совместно с продуктами, воспринимающих запахи в среднетемпературных холодильных камерах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Arial"/>
              </a:rPr>
              <a:t>Нарушение температурного режима хранения готовой пищевой продукци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Arial"/>
              </a:rPr>
              <a:t>Нарушения по маркировке и хранению разделочного инвентаря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Arial"/>
              </a:rPr>
              <a:t>Отсутствие маркировки (листов-вкладышей), несоответствие информации на маркировке обязательным требованиям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Arial"/>
              </a:rPr>
              <a:t>Не соблюдение требований к проведению производственного, в том числе лабораторного  контроля за факторами производственной среды и выполнением санитарно-противоэпидемических (профилактических) мероприятий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Arial"/>
              </a:rPr>
              <a:t>Несвоевременное прохождение медицинского осмотра с получением медицинского допуска к работе всеми сотрудниками организаций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Arial"/>
              </a:rPr>
              <a:t>Несвоевременное прохождение профессиональной гигиенической подготовки и аттестации персоналом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0203-5B39-48DE-8011-7F5A5AB8CCC6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75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75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7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Заголовок 1"/>
          <p:cNvSpPr/>
          <p:nvPr/>
        </p:nvSpPr>
        <p:spPr>
          <a:xfrm>
            <a:off x="395280" y="27468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Основные типовые нарушения обязательных требова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на промышленных предприятиях и в организация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Содержимое 2"/>
          <p:cNvSpPr/>
          <p:nvPr/>
        </p:nvSpPr>
        <p:spPr>
          <a:xfrm>
            <a:off x="250920" y="1557360"/>
            <a:ext cx="87138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75F6-0DCC-43BA-A290-F8D8B6BE3507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Прямоугольник 1"/>
          <p:cNvSpPr/>
          <p:nvPr/>
        </p:nvSpPr>
        <p:spPr>
          <a:xfrm>
            <a:off x="1116000" y="158256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  <a:ea typeface="Arial"/>
              </a:rPr>
              <a:t>Несоответствие уровней факторов производственной среды действующим гигиеническим норматива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  <a:ea typeface="Arial"/>
              </a:rPr>
              <a:t>Несоблюдение требований к организации обязательных медицинских осмотров работник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  <a:ea typeface="Arial"/>
              </a:rPr>
              <a:t>Нарушение порядка организации производственного лабораторного контрол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  <a:ea typeface="Arial"/>
              </a:rPr>
              <a:t>Отсутствие профилактических мероприятий (вентиляция, использование индивидуальных средств защиты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7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7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75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Заголовок 1"/>
          <p:cNvSpPr/>
          <p:nvPr/>
        </p:nvSpPr>
        <p:spPr>
          <a:xfrm>
            <a:off x="395280" y="27468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Arial"/>
              </a:rPr>
              <a:t>Основные типовые нарушения обязательных требован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Arial"/>
              </a:rPr>
              <a:t>индивидуальными предпринимателями и организациями, оказывающих услуги коммунально-бытового назначения (парикмахерские, маникюрные салоны, салоны красоты 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Содержимое 2"/>
          <p:cNvSpPr/>
          <p:nvPr/>
        </p:nvSpPr>
        <p:spPr>
          <a:xfrm>
            <a:off x="250920" y="1557360"/>
            <a:ext cx="87138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B1E3-3AFD-4DCD-BBEC-355B5775E315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Прямоугольник 1"/>
          <p:cNvSpPr/>
          <p:nvPr/>
        </p:nvSpPr>
        <p:spPr>
          <a:xfrm>
            <a:off x="1116000" y="1582560"/>
            <a:ext cx="71280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Не соблюдение требований к проведению производственного, в том числе лабораторного  контроля за факторами производственной среды и выполнением санитарно-противоэпидемических (профилактических) мероприят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Отсутствие  документов (сертификатов, деклараций о соответствии), подтверждающих в установленном порядке безопасность используемых дезинфекционных и моющих средст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Не соблюдение требований по организации централизованной стирки использованного белья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Отсутствие  мероприятий  по  дезинсекции  и  дератизации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75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21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ероприятия, внедряемые Территориальным отделом Межрегионального     управления № 25 по снижению административных мер воздействия на хозяйствующие субъекты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39640" y="1341360"/>
            <a:ext cx="81583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Организация контрольно-надзорной деятельности с использованием риск-ориентированной моде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Категорирование объектов надзора в зависимости от степени угрозы и риска причинения вреда жизни и здоровья граждан. Наличие у хозяйствующего субъекта возможности понижения категории рис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Внедрение изменений Федерального закона от 26.12.2008г. № 294-ФЗ «О защите прав юридических лиц и индивидуальных предпринимателей при осуществлении государственного контроля (надзора) и муниципального контроля»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- предварительная проверк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- предостереж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Увеличение доли предупреждений в связи с применением ст. 4.1.1 Кодекса административных нарушений Российской Федерации «Замена административного наказания в виде административного штрафа предупреждением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Обеспечение выполнения мероприятий Программы профилактики нарушений обязательных требований в области обеспечения санитарно-эпидемиологического благополучия на объектах надзора, обслуживаемых Территориальным отделом Межрегионального управления № 25 ФМБА России на 2019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75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75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75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353440" cy="5545440"/>
          </a:xfrm>
          <a:prstGeom prst="rect">
            <a:avLst/>
          </a:prstGeom>
          <a:gradFill rotWithShape="0">
            <a:gsLst>
              <a:gs pos="0">
                <a:srgbClr val="eaf5f6"/>
              </a:gs>
              <a:gs pos="50000">
                <a:srgbClr val="ffffff"/>
              </a:gs>
              <a:gs pos="100000">
                <a:srgbClr val="eaf5f6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Calibri"/>
                <a:ea typeface="Times New Roman"/>
              </a:rPr>
              <a:t>Спасибо 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603A-BD84-4E1F-95F1-13071148554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5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50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21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Правовые основания для проведения публичных обсуждений результатов правоприменительной практики органов гсударственного контроля (надзора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9640" y="1341360"/>
            <a:ext cx="81583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374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ункты 2 и 3 части 2 статьи 8.2 Федерального закона от 26.12.2008г. № 294-ФЗ «О защите прав юридических лиц и индивидуальных предпринимателей при осуществлении государственного контроля (надзора) и муниципального контроля»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 целях профилактики нарушений обязательных требований органы государственного контроля (надзора), органы муниципального контроля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2) осуществляют информирование юридических лиц, индивидуальных предпринимателей по вопросам соблюдения обязательных требований, в том числе посредством разработки и опубликования руководств по соблюдению обязательных требований, проведения семинаров и конференций, разъяснительной работы в средствах массовой информации и иными способами. В случае изменения обязательных требований органы государственного контроля (надзора), органы муниципального контроля подготавливают и распространяют комментарии о содержании новых нормативных правовых актов, устанавливающих обязательные требования, внесенных изменениях в действующие акты, сроках и порядке вступления их в действие, а также рекомендации о проведении необходимых организационных, технических мероприятий, направленных на внедрение и обеспечение соблюдения обязательных требований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3) обеспечивают регулярное (не реже одного раза в год) обобщение практики осуществления в соответствующей сфере деятельности государственного контроля (надзора), муниципального контроля и размещение на официальных сайтах в сети "Интернет" соответствующих обобщений, в том числе с указанием наиболее часто встречающихся случаев нарушений обязательных требований с рекомендациями в отношении мер, которые должны приниматься юридическими лицами, индивидуальными предпринимателями в целях недопущения таких нарушений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Число субъектов надзора, находящихся на учете в территориальном отделе Межрегионального управления № 25 ФМБА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250920" y="1557360"/>
          <a:ext cx="8569080" cy="4100400"/>
        </p:xfrm>
        <a:graphic>
          <a:graphicData uri="http://schemas.openxmlformats.org/drawingml/2006/table">
            <a:tbl>
              <a:tblPr/>
              <a:tblGrid>
                <a:gridCol w="4155840"/>
                <a:gridCol w="1414440"/>
                <a:gridCol w="1371600"/>
                <a:gridCol w="1627200"/>
              </a:tblGrid>
              <a:tr h="334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ъе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ммунальные объекты –все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- из них  лечебно-профилактиче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изводство пищев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щественное пит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зничная торгов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разова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 в т.ч. общеобразовательные шко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 детские дошкольные уч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мышленные пред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777F-BD84-4D61-A17D-878015AFF234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ериодичность проведения плановых проверок в отношении объектов государственного санитарно-эпидемиологического надзора в зависимости от присвоенной категории риска, утвержденная  Постановлением Правительства Российской Федерации от 17.08.2016г. № 8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116000" y="1628640"/>
          <a:ext cx="7272360" cy="3565800"/>
        </p:xfrm>
        <a:graphic>
          <a:graphicData uri="http://schemas.openxmlformats.org/drawingml/2006/table">
            <a:tbl>
              <a:tblPr/>
              <a:tblGrid>
                <a:gridCol w="4683240"/>
                <a:gridCol w="2589120"/>
              </a:tblGrid>
              <a:tr h="823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Категория риска объекта государственного санитарно-эпидемиологического надз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ериодичность проведения плановых прове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Категория чрезвычайно высокого риска         (1 клас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дин раз в календарном г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Категория высокого риска (2 клас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дин раз в 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Категория значительного риска (3 клас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дин раз в 3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Категория среднего риска (4 клас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е чаще чем 1 раз         в 4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Категория умеренного риска (5 клас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е чаще чем 1 раз         в 6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Категория низкого риска (6 клас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новые проверки не проводя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DD05-CFCA-4F56-A066-33B7D2E681F4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езультаты классификации объектов надзора по категориям риска в соответствии                    с Постановлением Правительства Российской Федерации от 17.08.2016г. № 8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Object 96" descr=""/>
          <p:cNvPicPr/>
          <p:nvPr/>
        </p:nvPicPr>
        <p:blipFill>
          <a:blip r:embed="rId1"/>
          <a:stretch/>
        </p:blipFill>
        <p:spPr>
          <a:xfrm>
            <a:off x="8796240" y="-4838760"/>
            <a:ext cx="13152600" cy="17084880"/>
          </a:xfrm>
          <a:prstGeom prst="rect">
            <a:avLst/>
          </a:prstGeom>
          <a:ln w="0">
            <a:noFill/>
          </a:ln>
        </p:spPr>
      </p:pic>
      <p:sp>
        <p:nvSpPr>
          <p:cNvPr id="59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BE23-52E6-4DF9-8A80-02CE97EB176D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332000" y="1700280"/>
          <a:ext cx="6324480" cy="3878280"/>
        </p:xfrm>
        <a:graphic>
          <a:graphicData uri="http://schemas.openxmlformats.org/drawingml/2006/table">
            <a:tbl>
              <a:tblPr/>
              <a:tblGrid>
                <a:gridCol w="1941480"/>
                <a:gridCol w="988920"/>
                <a:gridCol w="1076400"/>
                <a:gridCol w="1066680"/>
                <a:gridCol w="1251000"/>
              </a:tblGrid>
              <a:tr h="96984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Категория риска (класс опас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 учете в территориальном отделе Межрегионального управления № 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В плане проверок на 2018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Чрезвычайно высокого ри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marL="457200"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1 клас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 из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Высокого рис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marL="457200"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2 клас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0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1 из 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Значительного рис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marL="457200"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3 клас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 из 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реднего рис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marL="457200"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4 клас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3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 из 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меренного рис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marL="457200"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5 клас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3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 из 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изкого рис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marL="457200" algn="just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6 клас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Доля объектов надзора по категориям риска в общем количестве объектов надзора Территориального отдела Межрегионального управления № 25 ФМБА России  в 2018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385920" indent="-28584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1 класс (категория чрезвычайно высокого рис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85920" indent="-28584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2 класс (категория высокого рис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85920" indent="-28584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3 класс (категория значительного рис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85920" indent="-28584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4 класс(категория среднего рис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85920" indent="-28584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5 класс (категория умеренного рис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85920" indent="-28584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6 класс (категория низкого риска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Объект 5" descr=""/>
          <p:cNvPicPr/>
          <p:nvPr/>
        </p:nvPicPr>
        <p:blipFill>
          <a:blip r:embed="rId1"/>
          <a:stretch/>
        </p:blipFill>
        <p:spPr>
          <a:xfrm>
            <a:off x="4648320" y="1606680"/>
            <a:ext cx="4038480" cy="4512960"/>
          </a:xfrm>
          <a:prstGeom prst="rect">
            <a:avLst/>
          </a:prstGeom>
          <a:ln w="0">
            <a:noFill/>
          </a:ln>
        </p:spPr>
      </p:pic>
      <p:sp>
        <p:nvSpPr>
          <p:cNvPr id="6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4F50-1F01-4AEF-81D3-FF1B8E038DC4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632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  <a:ea typeface="Times New Roman"/>
              </a:rPr>
              <a:t>Количество проведенных проверок  в 2016-2018 г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Object 96" descr=""/>
          <p:cNvPicPr/>
          <p:nvPr/>
        </p:nvPicPr>
        <p:blipFill>
          <a:blip r:embed="rId1"/>
          <a:stretch/>
        </p:blipFill>
        <p:spPr>
          <a:xfrm>
            <a:off x="8796240" y="-4838760"/>
            <a:ext cx="13152600" cy="1708488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78920" y="5157360"/>
            <a:ext cx="8713800" cy="136692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В  связи  с внесением поправок в Федеральный Закон    № 294-ФЗ  от 28.12.2008 г. «О защите  прав юридических лиц и индивидуальных предпринимателей при осуществлении  государственного  контроля (надзора) и муниципального  контроля»  количество проведенных плановых проверок имеет тенденцию к снижению, количество проведенных внеплановых проверок осталось на уровне предыдущего год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75C9-A300-4EE3-8F33-EF8588FCC9CA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179280" y="1413000"/>
          <a:ext cx="8678880" cy="3282840"/>
        </p:xfrm>
        <a:graphic>
          <a:graphicData uri="http://schemas.openxmlformats.org/drawingml/2006/table">
            <a:tbl>
              <a:tblPr/>
              <a:tblGrid>
                <a:gridCol w="1749600"/>
                <a:gridCol w="2143080"/>
                <a:gridCol w="2286000"/>
                <a:gridCol w="2500200"/>
              </a:tblGrid>
              <a:tr h="45720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л-во мероприятий по контролю (проверк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ланов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неплано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Динамика проведения проверок в отношении юридических лиц и индивидуальных предпринимателей   в р.п. Кольцово в 2016-2018г.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Объект 4" descr=""/>
          <p:cNvPicPr/>
          <p:nvPr/>
        </p:nvPicPr>
        <p:blipFill>
          <a:blip r:embed="rId1"/>
          <a:stretch/>
        </p:blipFill>
        <p:spPr>
          <a:xfrm>
            <a:off x="646200" y="1871640"/>
            <a:ext cx="7851600" cy="3981600"/>
          </a:xfrm>
          <a:prstGeom prst="rect">
            <a:avLst/>
          </a:prstGeom>
          <a:ln w="0">
            <a:noFill/>
          </a:ln>
        </p:spPr>
      </p:pic>
      <p:sp>
        <p:nvSpPr>
          <p:cNvPr id="6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E010-8BE1-46B7-AE2E-0319F222B444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4594-056A-44F4-B203-C07C84B09CC2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9200" y="549000"/>
            <a:ext cx="734400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личество обращений граждан, рассмотренных в Территориальном отделе Межрегионального управления № 25 ФМБА России, в динамике 2017-2018 г.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г.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Group 49" descr=""/>
          <p:cNvPicPr/>
          <p:nvPr/>
        </p:nvPicPr>
        <p:blipFill>
          <a:blip r:embed="rId1"/>
          <a:stretch/>
        </p:blipFill>
        <p:spPr>
          <a:xfrm>
            <a:off x="378000" y="1139760"/>
            <a:ext cx="8497800" cy="532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08:58:17Z</dcterms:created>
  <dc:creator>Урютова</dc:creator>
  <dc:description/>
  <dc:language>en-US</dc:language>
  <cp:lastModifiedBy>Администратор</cp:lastModifiedBy>
  <cp:lastPrinted>2019-03-06T04:07:03Z</cp:lastPrinted>
  <dcterms:modified xsi:type="dcterms:W3CDTF">2019-03-07T03:47:18Z</dcterms:modified>
  <cp:revision>874</cp:revision>
  <dc:subject/>
  <dc:title>Инфекционная заболеваемость</dc:title>
</cp:coreProperties>
</file>