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63B7-3F1E-489A-9F83-AFC3EAFF744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Верхний колонтитул 4"/>
          <p:cNvSpPr/>
          <p:nvPr/>
        </p:nvSpPr>
        <p:spPr>
          <a:xfrm>
            <a:off x="0" y="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7696-3E06-4E09-8579-79D545CE47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EC5-E78B-44B5-94F6-177D376C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E9D-7F7F-48CF-88A0-2D8F46DE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03A93-DC71-4C08-83EB-DBA9AEAE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C62B5-FC83-4B33-B18A-D06A4CEA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0FD59-09EC-4AAF-961E-1C52AFB9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0ED53-000B-45FC-B53A-773D5E0E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A2B4E-31C9-417B-8AC0-ED476123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44F65-2347-4667-91B0-E650EDF2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EFD14-C2FA-4500-95B2-D4A40435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11256-EFA2-479D-8908-72535B15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C1E35-F989-4FEA-A942-9D18BC0A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4E8D2-AC63-483C-8C6B-8D13F43F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517-4F3C-4CE3-AC30-E7E2428A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FD3B0-3D59-4101-9542-56E9289C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4F514-BFDE-40BD-8604-BF2EB906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F6161-B98C-4F1F-9042-0C39EB07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86AA5-8AF2-4222-9E97-9E55C856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368F6-2930-49D8-96C1-E28768DF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F3F6A-F8B9-4F7D-BD51-C143A042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4E5D4-A575-4545-9334-643577EB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C0BED-B810-443A-A88C-D2649056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A2F60-C568-4260-AF42-E20CBCEE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55996-8775-414F-8400-A0100896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6E6-7F97-4C82-8C90-08A87381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AD152-F538-4953-892B-64679D3B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3D210-DB23-44CA-B6E8-EB2C745D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B5379-2729-4273-8B6A-E1FFBD51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3FED1-2BDC-4C80-872B-A20A9064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6F4D7-4002-49EF-BFF0-74A671B3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2F080-0623-4F4F-A09E-698B235F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0CF71-5C69-4471-8D83-3349AD1F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7C4C0-7659-4B20-8829-F113706C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30281-DDA8-4085-9676-3F942DB9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EDECA-3245-4174-B363-118A9EF0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CC76-7905-4057-A17A-05D4FEF5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F48E8-E11F-4F4D-BC02-A36194B8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6885F-B8FE-4A4E-BE55-072AE54F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85AF5-81CA-48CE-9C40-EF915B2C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5F167-132E-4F2D-B3F9-78E18829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395E4-EC00-40D5-B7EC-5490DEDC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28C91-F8E1-498C-BFB8-63D0A974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BA3B1-1497-430C-A988-118BC1D0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1A533-501C-468B-B09C-9DD61AA5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220E8-10EA-4E6F-A284-E630A9E1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C71F4-E500-4806-8E22-2B7784B4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5ED9-1AF8-4CD2-B9F7-9792E97E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78F56-2B51-48C2-911C-9852C7B2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7067B-3409-49AC-A524-EC920016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A0554-C80D-4D27-BA56-B0D0AE5A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7650A-8BA2-494C-AB8A-BF17D90B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F6631-B7D0-4D84-92B4-580BBB46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0C94F-BB8C-4CFB-AAFD-1F3425B9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9E1E7-6E1A-43A8-9FB6-80A1F216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F7AED-DCC2-4FCD-80FD-7BE8CD67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C32B5-F498-4CFB-A810-5CFCEB03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93FBB-6631-487F-976F-BB243A9E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233E-00EC-4E31-BBB0-65B4561A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FFF72-7AEC-49B4-9F70-0780F55D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9F8B0-BCC0-4152-8F6A-58BDCDC8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3CC95-FA82-4BBA-ABEB-AB67F474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92FB8-50CE-4820-B9E4-4C87EBE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B75B8-9F6C-4AC2-B865-7A10EBD9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B155B-5509-46A9-942F-08B13D9C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9BDA6-F191-4278-8DB2-54659324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C32EC1-5FDC-4262-AB2E-472A9047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884E4-D06B-46E1-A0B3-6D1D1F71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8628D-BAC1-42BA-84AE-68D74A34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2E5E-4F30-4048-BECF-41B080C3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429B1-77B0-4B4A-AE33-FEE8B368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26267-342E-42AB-B5D2-46EF436F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C55B2-CA25-4A99-814E-CB5505C4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CA442-FB99-4C76-9DBB-C7056B0C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46012-27C1-4374-B802-EE30F659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3E84E-36B8-49C2-AF17-7719962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F4080-603B-4B3E-8341-33013CE1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E0786-924D-4015-9EAD-87378BBE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0F420-E8E4-4598-BE43-8C14E7AE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1D01-8119-4477-8193-41DF69CE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F9DA-DDDF-4727-8FDF-738006FC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8CE7-A1E0-4778-9AD7-A91DBE65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975-F22F-460D-8717-26067A4F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E56B-92C7-43DF-A7E0-13CE6FEE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309F-746C-49B2-BB07-030E0D40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F695-8751-4AB6-AA80-609B4BF2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DE75-A113-4A21-9B24-B9088DB5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871F-5E8C-4899-9C13-5625A7C9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62E2-3B47-4E7B-A06D-CEDC6FBF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0E5C-1C7F-4038-BF44-2002965E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EFF04-634A-4FD4-BC29-53A9611E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0120-CE5B-4C27-AF85-062DABB4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606A-BA31-49D6-B181-D155DA3A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1A3-B249-4E14-B603-217647D4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F62C-0DB5-45A3-9ED2-3C6BFD2F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5B4DF-E74E-490A-99EA-5BBEB6DD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CF59-B057-45F1-830B-8011A5F6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5CE2-9EE7-4A99-B974-99F9F6C1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982F-552C-46EB-9180-1C2EF602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2FE0C-D957-4879-88E9-4BEC8E8D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258D-7CC8-4A4D-B60D-606A9C3F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010AA-8031-4869-8C7E-3344C6FA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522FB-5EB2-4E26-927E-4348801B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09431-187D-4817-8E69-39438F5A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AC2-0B41-4DA8-BD40-4C506FD8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07256-C469-4BF9-BDB6-4B62D879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9408B-F482-4682-8847-197B1295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E7807-ADAA-4FDD-B6E4-489E716E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FEBB6-5D6B-475B-AB61-CD743A1A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F9F31-90A7-48A3-B178-613EE0FF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ED58B-9F5D-405C-BCF5-D7A276DB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0C75-5877-4E62-9B9E-7C023302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ED712-3941-4D53-A13A-879D4290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D3E7-53B8-4AB3-9C02-6D0F5187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E36C0-C5C6-4430-9035-EFF19278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9AE-B511-460A-B7F5-8C86D5EE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81BAE-431F-4AD1-9BAA-BA85139A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4857E-E2B9-474D-87B3-9F357FE9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08BC-C5A3-41AF-80F7-31250702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AB38-FFCD-469D-A849-68441E63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A63C3-E694-4173-AC29-114B0CD6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8F74D-D60D-474A-AE91-BE5B501B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B8714-126F-40F6-BEA2-028FD867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F275-6A8E-46F9-BC7E-6BBEE9A8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18355-6BB6-4B87-A029-17112018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99190-FD59-4B7E-B83A-194AD95A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A31-6CD9-423E-A99D-83DA32A9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197EC-3B86-43E4-88D1-02D5DA43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DF5A-17AE-42D2-B488-3F716FE6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9B3DC-AAC0-4C8B-A484-88F21BAF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3B9DE-4826-4CB2-ACE6-737EB11A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7437E-B7F7-4FFC-A047-CC7B52F8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D03D2-D03D-4FB5-9DD2-CE676C1F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A0393-FD81-4D27-ABDD-5F1C31F7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A5CD1-71D4-4BD8-81FD-7147F052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EA8D6-6377-45B1-B48D-6541ADD9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766D9-9E73-4FD4-8FC6-D0E21D30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8B7-0E46-46EA-828F-DECB4C4C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B9EF6-B589-4C95-BA0F-FA0A86A5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352B3-B797-44D1-9803-88D8BC75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90982-CD50-4375-B159-CAB36D4A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3BC0C-CD85-4842-8927-AB8859D1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D88E5-63F9-4FDE-B078-3E8235B6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1DE54-7A4A-44C8-878F-A352600D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7D998-9539-4065-800F-FE0D38FB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682E7-589B-4EE6-9AF6-A01B7AF2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EB57B-BA8A-44D0-9358-0447AD61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02434-15E8-4415-AB01-B7F3DC9C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DB0-0A3D-49C0-BDDB-B00659AA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C9936-D5B7-474C-9EBF-23DFEA4D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780DF-26A0-45FE-B971-8A62AC34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99E9D-9BB6-4E99-9E38-306859AC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42BD0-24E2-49D3-9BFF-C97AC98D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2C324-4C63-4E14-9E16-9FF56021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4215D-77B3-483E-8C15-6254B77B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E645D-DCBC-4940-9D5B-4B4A9C2B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A919E-72FD-4D64-8C47-D81BEB70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4F0A4-3ED1-4ED1-B861-2EF9DF08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41807-1126-4FC4-BD2C-048E3AA1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B93-67E2-47EB-87C4-7AED9413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48CDD-0527-41D4-9F20-9BBF6A24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AC0DC-1795-47DF-B9EB-2CCF77B2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94978-1ACD-420D-AC2C-0E8488EF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C0C40-4234-4F7F-92B7-091B3EC5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4DE24-206F-4AC5-AEA0-877CBA25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B1250-282A-4C19-AFD8-D3010BFC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5A892-93FA-487D-821D-8C68BBC0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00F54-0826-4148-829F-FD81346E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00B24-9514-4C49-B50B-7DF27DB7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A260F-0B22-4784-9E95-B2C6B715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121A-ADAF-4EE4-92E3-CE9110AA2975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026F-F96C-4B84-AB4D-8678F086F50E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310A-C1CE-4D1B-9B38-33AB47408D30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C4B5-D892-45E8-8229-F73AE92D8B96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5BB8-4122-414F-B2FC-091CD3A044D3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1B38-ABA5-40DD-90C4-D70603A8AAE9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1F2B-7039-4D15-A5A7-5775DD524239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63EE-753D-44B6-A883-0678CE81B578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4E9F-3D96-4A93-B155-9CA7C44D2E9D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5989-1DFE-42B9-AAE7-0BAC03C149D2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5205-FDFC-4445-BCB0-A420F8304DE5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9737-9AFF-411C-8590-0F950285A141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3CEA-7DEE-422C-87BD-38E4C6754667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3C07-C6D2-4996-AB8E-D043BD37C8CC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F9C3-54E4-44B4-BB20-1F8294AE60BF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D292-8B61-4DD5-A45D-850D0272F5FD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59A5-01CB-4652-8D3E-07FC18D22FD1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B8B2-401E-4C89-BA45-50EB658FB5B3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0917-A966-4153-AB66-92871180F128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EDC1-262C-41CD-BC06-6FDAAB7425A2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427A-05C9-41D8-86E9-713D7ABE01A9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9A44-2271-44A0-80F0-D25FA618B247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A462-7512-4D20-8A4F-99428C883D19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7B59-7DDF-445B-912B-E5E6499319E3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37EA-6114-4787-8DF3-9305562C0082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D95D-049F-4E87-84D6-737A1F0836D5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3185-3579-44D7-AB65-59578FD56656}" type="datetime">
              <a:rPr b="0" lang="ru-RU" sz="2400" spc="-1" strike="noStrike">
                <a:solidFill>
                  <a:srgbClr val="898989"/>
                </a:solidFill>
                <a:latin typeface="Constantia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9620-C904-4028-ABAF-9EFC2A3B31A8}" type="slidenum">
              <a:rPr b="0" lang="ru-RU" sz="24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A5A7-81A6-4BCC-892A-F0242839F1FB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675640" cy="26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авоприменительная практика контрольно-надзорной деятельности  территориального  отдела Межрегионального управления № 25 ФМБА  России  за 3 квартал 201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8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года.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убличные обсу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295280" y="4868640"/>
            <a:ext cx="78487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меститель руководителя Межрегионального управления № 25 ФМБА России  -  начальник территориального отдела Межрегионального управления № 25 ФМБА Росс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.В. Каш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3875040" y="76500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обязательных требований санитарного законодательства при осуществлении федерального государственного санитарного надзора в отношении в отношении организаций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_МБУ ПКиО «Парк-Кольцово», МБУ «Стадион Кольцово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 3 кв. 2018 г. табл. №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D6C1-A32E-462E-A5FE-A82B4DAF4A0D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611280" y="1268280"/>
          <a:ext cx="7920000" cy="3570480"/>
        </p:xfrm>
        <a:graphic>
          <a:graphicData uri="http://schemas.openxmlformats.org/drawingml/2006/table">
            <a:tbl>
              <a:tblPr/>
              <a:tblGrid>
                <a:gridCol w="431640"/>
                <a:gridCol w="1650960"/>
                <a:gridCol w="1717920"/>
                <a:gridCol w="411948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ормативных правовых актов, с указанием их структурных единиц, которыми установлены обязательн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, на котор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ы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беспечено своевременное прохождение работниками объекта спорта предварительных при приеме на работу и периодических медицинских обследований, гигиенического воспитания и обучения работников объекта спорта. Заключительные акты прохождения периодических медицинских осмотров за 2017-2018 г.г. отсутствуют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п. 10.1 санитарно-эпидемиологических правил и нормативов СП 2.1.2.3304-15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о-эпидемиологические требования к размещению, устройству и содержанию объектов спорт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У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он Кольцово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Rectangle 128"/>
          <p:cNvSpPr/>
          <p:nvPr/>
        </p:nvSpPr>
        <p:spPr>
          <a:xfrm>
            <a:off x="539640" y="519372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е мероприятия по их устранен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рохождение работниками объекта спорта периодического медицинского обследования, гигиенического воспитания и обу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– до 15.11.2018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Мероприятия, внедряемые Территориальным отделом Межрегионального     управления № 25 по снижению административных мер воздействия на хозяйствующие субъек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39640" y="1341360"/>
            <a:ext cx="81583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Организация контрольно-надзорной деятельности с использованием риск-ориентированной мод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Категорирование объектов надзора в зависимости от степени угрозы и риска причинения вреда жизни и здоровья граждан. Наличие у хозяйствующего субъекта возможности понижения категории рис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Внедрение изменений Федерального закона от 26.12.2008г. № 294-ФЗ «О защите прав юридических лиц и индивидуальных предпринимателей при осуществлении государственного контроля (надзора) и муниципального контроля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- предварительная проверк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- предостереж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Увеличение доли предупреждений в связи с применением ст. 4.1.1 Кодекса административных нарушений Российской Федерации «Замена административного наказания в виде административного штрафа предупреждением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Обеспечение выполнения мероприятий Программы профилактики нарушений обязательных требований в области обеспечения санитарно-эпидемиологического благополучия на объектах надзора, обслуживаемых Территориальным отделом Межрегионального управления № 25 ФМБА России на 201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</a:rPr>
              <a:t>8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7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5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353440" cy="5545440"/>
          </a:xfrm>
          <a:prstGeom prst="rect">
            <a:avLst/>
          </a:prstGeom>
          <a:gradFill rotWithShape="0">
            <a:gsLst>
              <a:gs pos="0">
                <a:srgbClr val="eaf5f6"/>
              </a:gs>
              <a:gs pos="50000">
                <a:srgbClr val="ffffff"/>
              </a:gs>
              <a:gs pos="100000">
                <a:srgbClr val="eaf5f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Calibri"/>
                <a:ea typeface="Times New Roman"/>
              </a:rPr>
              <a:t>Спасибо 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F9F8-0045-48CF-9059-71B4E01A75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5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равовые основания для проведения публичных обсуждений результатов правоприменительной практики органов гсударственного контроля (надзора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9640" y="1341360"/>
            <a:ext cx="81583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37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ункты 2 и 3 части 2 статьи 8.2 Федерального закона от 26.12.2008г. № 294-ФЗ «О защите прав юридических лиц и индивидуальных предпринимателей при осуществлении государственного контроля (надзора) и муниципального контроля»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целях профилактики нарушений обязательных требований органы государственного контроля (надзора), органы муниципального контроля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) осуществляют информирование юридических лиц, индивидуальных предпринимателей по вопросам соблюдения обязательных требований, в том числе посредством разработки и опубликования руководств по соблюдению обязательных требований, проведения семинаров и конференций, разъяснительной работы в средствах массовой информации и иными способами. В случае изменения обязательных требований органы государственного контроля (надзора), органы муниципального контроля подготавливают и распространяют комментарии о содержании новых нормативных правовых актов, устанавливающих обязательные требования, внесенных изменениях в действующие акты, сроках и порядке вступления их в действие, а также рекомендации о проведении необходимых организационных, технических мероприятий, направленных на внедрение и обеспечение соблюдения обязательных требований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3) обеспечивают регулярное (не реже одного раза в год) обобщение практики осуществления в соответствующей сфере деятельности государственного контроля (надзора), муниципального контроля и размещение на официальных сайтах в сети "Интернет" соответствующих обобщений, в том числе с указанием наиболее часто встречающихся случаев нарушений обязательных требований с рекомендациями в отношении мер, которые должны приниматься юридическими лицами, индивидуальными предпринимателями в целях недопущения таких нарушений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обязательных требований санитарного законодательства при осуществлении федерального государственного санитарного надзора в отношении производственных объектов, научно-исследовательских институтов и лабораторий, осуществляющих работы с микроорганизмами 1 - 4 групп патогенност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 3 кв. 2018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45A0-2A10-4C7E-A721-BD69F3000C28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11280" y="1197000"/>
          <a:ext cx="8280360" cy="5351400"/>
        </p:xfrm>
        <a:graphic>
          <a:graphicData uri="http://schemas.openxmlformats.org/drawingml/2006/table">
            <a:tbl>
              <a:tblPr/>
              <a:tblGrid>
                <a:gridCol w="4149720"/>
                <a:gridCol w="900000"/>
                <a:gridCol w="808200"/>
                <a:gridCol w="2422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е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лановые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ве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верок, при  которых применялись лабораторные и инструментальные методы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 проверок,  по итогам проведения которых выявлены правонаруш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 предписаний, выданных по результатам проведения прове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 административных наказаний, наложенных по итогам проверок,  в том числе по видам наказаний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упреж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ый штра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ое приостановление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наложенных административных штрафов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яч рублей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уплаченных, взысканных административных штрафов,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яч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обязательных требований санитарного законодательства при осуществлении федерального государственного санитарного надзора в отношении производственных объектов, научно-исследовательских институтов и лабораторий, осуществляющих работы с микроорганизмами 1 - 4 групп патогенност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 3 кв. 2018 г. табл. №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25FA-9006-43FA-BD8F-84E967B2D5D3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395280" y="1197000"/>
          <a:ext cx="8424720" cy="4753080"/>
        </p:xfrm>
        <a:graphic>
          <a:graphicData uri="http://schemas.openxmlformats.org/drawingml/2006/table">
            <a:tbl>
              <a:tblPr/>
              <a:tblGrid>
                <a:gridCol w="1579680"/>
                <a:gridCol w="2171520"/>
                <a:gridCol w="1919520"/>
                <a:gridCol w="2754000"/>
              </a:tblGrid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визиты нормативных правовых актов, с указанием их структурных единиц, которыми установлены обязательн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, на котор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ы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мещении  329  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а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втоклавная) отдела молекулярной вирусологии флавивирусов и вирусных гепатитов  имеются  дефекты  внутренней  отделки (с потолка  и  стен  осыпается  краска  и  штукату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            п.2.3.40 СП 1.3.3118-13 Безопасность работы с микроорганизмами I-II групп патогенности (опасности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СанП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БУН ГНЦ ВБ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Роспотреб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мещении 19/3   (КДФ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а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она) отдела молекулярной вирусологии флавивирусов и вирусных гепатитов имеются  дефекты  внутренней  отделки (с потолка  и  стен  осыпается  краска  и  штукатур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 п. 2.3.40 СП 1.3.3118-13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пасность работы с микроорганизмами I-II групп патогенности (опасности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БУН ГНЦ ВБ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Роспотреб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обязательных требований санитарного законодательства при осуществлении федерального государственного санитарного надзора в отношении производственных объектов, научно-исследовательских институтов и лабораторий, осуществляющих работы с микроорганизмами 1 - 4 групп патогенност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 3 кв. 2018 г. табл. №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88AC-E1FA-4E2F-AEC5-AD448A37E0FF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611280" y="1413000"/>
          <a:ext cx="8137440" cy="5059080"/>
        </p:xfrm>
        <a:graphic>
          <a:graphicData uri="http://schemas.openxmlformats.org/drawingml/2006/table">
            <a:tbl>
              <a:tblPr/>
              <a:tblGrid>
                <a:gridCol w="1357200"/>
                <a:gridCol w="2238480"/>
                <a:gridCol w="1981080"/>
                <a:gridCol w="2560680"/>
              </a:tblGrid>
              <a:tr h="2073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о экспертному заключению по результатам инструментальных измерений неионизирующих излучений № 377-ИИ от 04.07.2018 г.   к протоколу № 0797 от 04.07.2018 г.: измеренные параметры искусственной освещенности в кабинете № 127 (стол, экран);  кабинете № 222 стол № 1 экран и стол № 2 экран корпуса 12а ФБУН ГНЦ ВБ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оспотребнадзора не соответствуют гигиеническим норматива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 требований СанПиН 2.2.2/2.4.1340-03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 требования к  персональным электронно-вычислительным машинам и организации работ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в редакции изменений, утв. Постановлением Главного государственного санитарного врача РФ от 21.06.2016 г. № 81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БУН ГНЦ ВБ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оспотребнадз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о экспертному заключению по результатам инструментальных измерений неионизирующих излучений № 375-ИИ от 04.07.2018 г. к протоколу № 0795 от 04.07.2018 г.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ные параметры искусственной освещенности в кабинете № 202 (приёмная стол, приёмная экран); кабинете начальника международных связей, стол № 1, стол № 2,  кабинете начальника международных связей, экран; кабинете № 215 ПЭО (стол и экран); кабинете № 218 ПЭО (стол и экран) корпуса  12 ФБУН ГНЦ ВБ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оспотребнадзора не соответствуют гигиеническим норматив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требований СанПиН 2.2.2/2.4.1340-03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 требования к  персональным электронно-вычислительным машинам и организации работ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в редакции изменений, утв. Постановлением Главного государственного санитарного врача РФ от 21.06.2016 г. № 81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БУН ГНЦ ВБ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«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ктор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оспотребнадз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обязательных требований санитарного законодательства при осуществлении федерального государственного санитарного надзора в отношении производственных объектов, научно-исследовательских институтов и лабораторий, осуществляющих работы с микроорганизмами 1 - 4 групп патогенности и возможные мероприятия по из устранению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 3 кв. 2018 г. табл. №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Object 96" descr=""/>
          <p:cNvPicPr/>
          <p:nvPr/>
        </p:nvPicPr>
        <p:blipFill>
          <a:blip r:embed="rId1"/>
          <a:stretch/>
        </p:blipFill>
        <p:spPr>
          <a:xfrm>
            <a:off x="9609120" y="-398520"/>
            <a:ext cx="11526840" cy="8205840"/>
          </a:xfrm>
          <a:prstGeom prst="rect">
            <a:avLst/>
          </a:prstGeom>
          <a:ln w="0">
            <a:noFill/>
          </a:ln>
        </p:spPr>
      </p:pic>
      <p:sp>
        <p:nvSpPr>
          <p:cNvPr id="59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B5E8-EE87-49EA-9155-B9E1CF0D88AF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1"/>
          <p:cNvSpPr/>
          <p:nvPr/>
        </p:nvSpPr>
        <p:spPr>
          <a:xfrm>
            <a:off x="826920" y="2082600"/>
            <a:ext cx="7777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сти ремонт помещения 329  («чистая» автоклавная) отдела молекулярной вирусологии флавивирусов и вирусных гепатитов.  Срок до 01.12.2018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сти ремонт помещения 19/3   (КДФ «чистая» зона) отдела молекулярной вирусологии флавивирусов и вирусных гепатитов. Срок до 01.12.2018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вести параметры искусственной освещенности в  кабинетах №№ 127, 222 корпуса 12а ФБУН ГНЦ ВБ «Вектор» Роспотребнадзора и кабинетах №№ 202, 215, 218 корпуса 12 ФБУН ГНЦ ВБ «Вектор» Роспотребнадзора в соответствие с  требованиями  СанПиН 2.2.2/2.4.1340-03 «Гигиенические требования к  персональным электронно-вычислительным машинам и организации работы» (в редакции изменений, утв. Постановлением Главного государственного санитарного врача РФ от 21.06.2016 г. № 81). Срок до 01.12.2018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обязательных требований санитарного законодательства при осуществлении федерального государственного санитарного надзора в отношении детских и подростковых организаций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 3 кв. 2018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EC33-48FB-4E90-B4E9-2915B539A49B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1042920" y="1341360"/>
          <a:ext cx="7559640" cy="4175280"/>
        </p:xfrm>
        <a:graphic>
          <a:graphicData uri="http://schemas.openxmlformats.org/drawingml/2006/table">
            <a:tbl>
              <a:tblPr/>
              <a:tblGrid>
                <a:gridCol w="3573360"/>
                <a:gridCol w="900360"/>
                <a:gridCol w="807840"/>
                <a:gridCol w="2278080"/>
              </a:tblGrid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е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лановые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ве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верок, при  которых применялись лабораторные и инструментальные методы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 проверок,  по итогам проведения которых выявлены правонаруш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обязательных требований санитарного законодательства при осуществлении федерального государственного санитарного надзора в отношении предприятий по производству пищевых продуктов, общественного питания  и торговли пищевыми продуктам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 3 кв. 2018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F635-DF73-496F-B80B-887B7E25C728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826920" y="1773360"/>
          <a:ext cx="7920360" cy="3635280"/>
        </p:xfrm>
        <a:graphic>
          <a:graphicData uri="http://schemas.openxmlformats.org/drawingml/2006/table">
            <a:tbl>
              <a:tblPr/>
              <a:tblGrid>
                <a:gridCol w="3718080"/>
                <a:gridCol w="900000"/>
                <a:gridCol w="808200"/>
                <a:gridCol w="249408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е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лановые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ве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верок, при  которых применялись лабораторные и инструментальные методы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 проверок,  по итогам проведения которых выявлены правонаруш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обязательных требований санитарного законодательства при осуществлении федерального государственного санитарного надзора в отношении в отношении организаций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_МБУ ПКиО «Парк-Кольцово», МБУ «Стадион Кольцово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 3 кв. 2018 г. табл.№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8FB7-98A7-48FB-9A82-A34E3F74CC9C}" type="slidenum">
              <a:rPr b="0" lang="ru-RU" sz="1200" spc="-1" strike="noStrike">
                <a:solidFill>
                  <a:srgbClr val="1f497d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11280" y="1484280"/>
          <a:ext cx="7777080" cy="4829040"/>
        </p:xfrm>
        <a:graphic>
          <a:graphicData uri="http://schemas.openxmlformats.org/drawingml/2006/table">
            <a:tbl>
              <a:tblPr/>
              <a:tblGrid>
                <a:gridCol w="3846600"/>
                <a:gridCol w="904680"/>
                <a:gridCol w="812880"/>
                <a:gridCol w="221292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е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лановые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ве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верок, при  которых применялись лабораторные и инструментальные методы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 проверок,  по итогам проведения которых выявлены правонаруш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 предписаний, выданных по результатам проведения прове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ый штра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наложенных административных штрафов,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яч рублей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3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уплаченных, взысканных административных штрафов,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яч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08:58:17Z</dcterms:created>
  <dc:creator>Урютова</dc:creator>
  <dc:description/>
  <dc:language>en-US</dc:language>
  <cp:lastModifiedBy>Администратор</cp:lastModifiedBy>
  <cp:lastPrinted>2017-05-03T09:56:00Z</cp:lastPrinted>
  <dcterms:modified xsi:type="dcterms:W3CDTF">2018-11-21T06:10:21Z</dcterms:modified>
  <cp:revision>850</cp:revision>
  <dc:subject/>
  <dc:title>Инфекционная заболеваемость</dc:title>
</cp:coreProperties>
</file>